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CEBE-C054-4ED1-921D-1A814F42EE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C016-8CE9-44AE-B30B-399F0167E39F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95C9-CC7E-4CD8-9E92-4C51CE49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0966-E919-49B3-AF1E-24B7D344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FB86-CE17-44BC-AA99-C04A02651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9AF1-27C8-4B38-80D9-A46C552A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E307-11DE-4996-89C4-E9F40BA5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17E7-E96B-4D95-B27C-ABC6B63D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2EE4-23C8-4EBD-B8ED-CC035D03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2D13-CE7C-4370-A897-80C6EB8C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D618-AEAC-4AF3-9F12-17CAF9B4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E93D-C70B-4954-8998-E6695EBF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1DF2-8858-43AE-9183-C9D2A41E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F303-4590-404E-AD14-D764B42A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E9E0-50B8-4903-B6AF-7FE18387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B2D3-78D9-4BFE-B836-9CD08A3F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FCB8-F965-4A38-A210-07374595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19DB-5CC6-4036-B9A0-50326B70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0D49-1483-4687-A66B-3662A01D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5FD82-8F37-4A7F-B221-C78DE744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C8138-B289-4A77-8B92-CA63BE68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11361-23EC-4815-BDDB-9678F317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267AD-022F-40C2-8021-3B829B02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D384E-3ABD-43C3-BF27-9BFD0AC9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FB3D-326E-46BA-B5AC-8E6E4AF9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13868-20C3-4100-9518-C609A26D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13995-93A2-469C-8B4B-2D6BEF9F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6515D-ACCF-41F3-AC1B-BF044D28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9B3BF-86B3-46FE-91D4-2B8B13C8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3FEAF-FF1C-4AEA-BC82-D4D64B9C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2C89F-2A88-4976-8795-11133C83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B432F-AA6D-4900-8A4E-C68411479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919F7-8FBC-404A-9C09-E9ABD01B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71D5C-BE15-4728-BA1B-0E80E602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BB1CB-E5A4-4B11-874D-4E3AF7CB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AC26-1980-4581-9D5F-A7CAD99F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AA7C1-EABF-4B10-991C-FC401E26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33556-2712-4971-81C9-B8CB72B4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B0B61-A26A-4277-AEFE-013A91FA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4F0D7-41C4-4BC6-BECB-391A38DD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8273C-56EC-4944-9538-025DA9B1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F5789-5879-49E6-B949-22231427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FA3C4-8001-4594-A6FD-AEC6ED09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F823E-E61A-4FFA-8B60-45F34696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678A4-AF52-443E-A267-EE3F69D16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118BF-5718-44E7-9019-E3DD10CEB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89F0-E19E-490A-AC06-5DBD30C2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DA033-1C38-423E-B5B0-9F3FA171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AFBFA-46BF-4D9D-A483-82A93BE7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7ADEF-53D8-425C-8439-6C2ADA74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4637E-831D-47BA-BE5B-13E1CF68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94A20-424F-4106-8E5C-856BB500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E1F0D-D43B-46A9-A994-26C40E4D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2E560-7AE5-450D-A8EE-182B4EE7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72226-633D-4AEF-991E-257F2E55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C124A-ADE3-4531-AA24-DA16A1C3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D8DE0-FD4F-4AF4-A2A5-67B24E0C1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776F-8CFF-4F65-8ADE-98FC79B3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35469-92F8-432B-B383-521C39891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ADB5-DE05-431A-8E40-3A11525A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85CF-4B4D-4AD4-8AE3-8F99639E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F227-1DED-484B-943C-4F535EE8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6064-1166-4C12-8968-EBDC41BA79B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B615-FAFA-40B6-84BD-EA3055A2FB4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97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70CB-254E-4C8A-9B81-DA2AAEA325B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4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14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14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8203-53FB-4E5A-B7A1-8C4319BD3EB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9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6252-87F9-450C-A644-78FE236448D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54240" y="331920"/>
            <a:ext cx="7412760" cy="748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ГОДУ (318,85 млн.руб.)</a:t>
            </a:r>
            <a:endParaRPr b="1" lang="en-US" sz="17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8:13Z</dcterms:modified>
  <cp:revision>160</cp:revision>
  <dc:subject/>
  <dc:title>Структура собственных доходов на 2016 год бюджета Дальнереченского городского округа</dc:title>
</cp:coreProperties>
</file>